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FD96-1585-4357-9534-92D49D0DD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7DBB-6ED1-438C-B6E2-084C43B56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BD3C-8E1A-49E6-BBB6-F574D6D07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14D9-2559-4B57-98B9-0BF0D16EA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9BAD9-4009-4384-8D38-AD4834455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5CF7F-5CA8-4BCF-B353-AE32A6D4B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94E28-EF0D-425D-A3D8-57351A535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8E6A6-8909-459E-906C-ACE6D0515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575FF-851E-4283-B5FA-514519460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8B8CE-C9A7-4F05-B465-010484A4C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C5588-600E-41F9-A57F-7F49BF72D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1021-6664-4C56-9CFB-6BE3FB33F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CDF31-6C2E-460A-B6D7-8D06AB89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36FAB-149C-437A-A23C-C98D58674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D4F22-40D1-4C1C-97B1-B0E525DFA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7411A-5D8B-4689-BE87-FE7DC93E9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E8CC0-E2F9-44A8-B211-E033B04A2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CD90-1A2C-4D17-8AEC-C2DD3F7AE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7E34-8C6F-40F1-95D0-B0CA5A2DB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9271-98E1-4FA8-8E84-2AF20983A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813A-5998-4BBC-8FE9-CF835CC24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22A9-9C33-4234-89BC-3E53BD1C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9C0C-740B-4B38-A6B7-3B99684E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7396-9A62-4F40-8655-07434421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Verdana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056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796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800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Verdana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8C22D-DB8D-4525-A22C-C46A327A281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360"/>
            <a:ext cx="9159840" cy="6869880"/>
            <a:chOff x="0" y="360"/>
            <a:chExt cx="9159840" cy="686988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108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1080"/>
              <a:ext cx="1203120" cy="685656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360"/>
              <a:ext cx="1295280" cy="6309360"/>
              <a:chOff x="7848720" y="360"/>
              <a:chExt cx="1295280" cy="630936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360"/>
                <a:ext cx="762120" cy="2271600"/>
                <a:chOff x="8381880" y="360"/>
                <a:chExt cx="762120" cy="227160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7320" y="360"/>
                  <a:ext cx="279360" cy="275400"/>
                  <a:chOff x="8707320" y="360"/>
                  <a:chExt cx="279360" cy="27540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7320" y="360"/>
                    <a:ext cx="279360" cy="275400"/>
                    <a:chOff x="8707320" y="360"/>
                    <a:chExt cx="279360" cy="27540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6200" y="-3852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5560" y="92520"/>
                      <a:ext cx="14112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Verdana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6840" y="1310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0600" y="72000"/>
                    <a:ext cx="4248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1520" y="5940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1000" y="10944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6840" y="19296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5360" y="16812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Verdana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96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96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46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5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91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8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920"/>
                <a:ext cx="828720" cy="4708800"/>
                <a:chOff x="7848720" y="1600920"/>
                <a:chExt cx="828720" cy="470880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9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8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09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3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960"/>
              <a:ext cx="1190520" cy="193932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8200"/>
              <a:ext cx="1219320" cy="19994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8440"/>
              <a:ext cx="1231920" cy="403596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800"/>
              <a:ext cx="979560" cy="218376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8040"/>
              <a:ext cx="914400" cy="504720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3160"/>
              <a:ext cx="909720" cy="30708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1080"/>
              <a:ext cx="576360" cy="335196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2520"/>
              <a:ext cx="300240" cy="335232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2520"/>
              <a:ext cx="88920" cy="68565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884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4680" y="3316680"/>
              <a:ext cx="685656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B28C6-0E3B-42E1-AE4D-16F5921A82DB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Определи часть слов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286000" y="1371600"/>
            <a:ext cx="914400" cy="6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f1311"/>
                </a:solidFill>
                <a:latin typeface="Arial"/>
              </a:rPr>
              <a:t>ЗА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Содержимое 2"/>
          <p:cNvSpPr/>
          <p:nvPr/>
        </p:nvSpPr>
        <p:spPr>
          <a:xfrm>
            <a:off x="2971800" y="1371600"/>
            <a:ext cx="20574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f1311"/>
                </a:solidFill>
                <a:latin typeface="Arial"/>
              </a:rPr>
              <a:t>МОРОЗ</a:t>
            </a:r>
            <a:endParaRPr b="0" lang="en-US" sz="40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195" name="Содержимое 2"/>
          <p:cNvSpPr/>
          <p:nvPr/>
        </p:nvSpPr>
        <p:spPr>
          <a:xfrm>
            <a:off x="4876920" y="1371600"/>
            <a:ext cx="53316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f1311"/>
                </a:solidFill>
                <a:latin typeface="Arial"/>
              </a:rPr>
              <a:t>К</a:t>
            </a:r>
            <a:endParaRPr b="0" lang="en-US" sz="40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196" name="Содержимое 2"/>
          <p:cNvSpPr/>
          <p:nvPr/>
        </p:nvSpPr>
        <p:spPr>
          <a:xfrm>
            <a:off x="5257800" y="1371600"/>
            <a:ext cx="6858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f1311"/>
                </a:solidFill>
                <a:latin typeface="Arial"/>
              </a:rPr>
              <a:t>И</a:t>
            </a:r>
            <a:endParaRPr b="0" lang="en-US" sz="40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1066680" y="2362320"/>
            <a:ext cx="32418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. приставка</a:t>
            </a:r>
            <a:endParaRPr b="0" lang="en-US" sz="32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1066680" y="3200400"/>
            <a:ext cx="32418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2. корень</a:t>
            </a:r>
            <a:endParaRPr b="0" lang="en-US" sz="32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1066680" y="4114800"/>
            <a:ext cx="32418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3. суффикс</a:t>
            </a:r>
            <a:endParaRPr b="0" lang="en-US" sz="32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1066680" y="5029200"/>
            <a:ext cx="32418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4. окончание</a:t>
            </a:r>
            <a:endParaRPr b="0" lang="en-US" sz="3200" spc="-1" strike="noStrike">
              <a:solidFill>
                <a:srgbClr val="2f131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25,-81,121)"/>
                                      </p:to>
                                    </p:set>
                                    <p:set>
                                      <p:cBhvr>
                                        <p:cTn id="1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25,-81,121)"/>
                                      </p:to>
                                    </p:se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9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500" autoRev="1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7,19,47)"/>
                                      </p:to>
                                    </p:set>
                                    <p:set>
                                      <p:cBhvr>
                                        <p:cTn id="24" dur="500" autoRev="1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7,19,47)"/>
                                      </p:to>
                                    </p:set>
                                    <p:set>
                                      <p:cBhvr>
                                        <p:cTn id="25" dur="500" autoRev="1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500" autoRev="1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25,-81,121)"/>
                                      </p:to>
                                    </p:set>
                                    <p:set>
                                      <p:cBhvr>
                                        <p:cTn id="30" dur="500" autoRev="1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25,-81,121)"/>
                                      </p:to>
                                    </p:set>
                                    <p:set>
                                      <p:cBhvr>
                                        <p:cTn id="31" dur="500" autoRev="1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5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500" autoRev="1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7,19,47)"/>
                                      </p:to>
                                    </p:set>
                                    <p:set>
                                      <p:cBhvr>
                                        <p:cTn id="40" dur="500" autoRev="1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7,19,47)"/>
                                      </p:to>
                                    </p:set>
                                    <p:set>
                                      <p:cBhvr>
                                        <p:cTn id="41" dur="500" autoRev="1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500" autoRev="1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25,-81,121)"/>
                                      </p:to>
                                    </p:set>
                                    <p:set>
                                      <p:cBhvr>
                                        <p:cTn id="46" dur="500" autoRev="1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25,-81,121)"/>
                                      </p:to>
                                    </p:set>
                                    <p:set>
                                      <p:cBhvr>
                                        <p:cTn id="47" dur="500" autoRev="1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500" autoRev="1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7,19,47)"/>
                                      </p:to>
                                    </p:set>
                                    <p:set>
                                      <p:cBhvr>
                                        <p:cTn id="56" dur="500" autoRev="1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7,19,47)"/>
                                      </p:to>
                                    </p:set>
                                    <p:set>
                                      <p:cBhvr>
                                        <p:cTn id="57" dur="500" autoRev="1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500" autoRev="1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25,-81,121)"/>
                                      </p:to>
                                    </p:set>
                                    <p:set>
                                      <p:cBhvr>
                                        <p:cTn id="62" dur="500" autoRev="1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25,-81,121)"/>
                                      </p:to>
                                    </p:set>
                                    <p:set>
                                      <p:cBhvr>
                                        <p:cTn id="63" dur="500" autoRev="1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Определи часть слов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828800" y="1294920"/>
            <a:ext cx="1371600" cy="9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f1311"/>
                </a:solidFill>
                <a:latin typeface="Arial"/>
              </a:rPr>
              <a:t>ПОД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Содержимое 2"/>
          <p:cNvSpPr/>
          <p:nvPr/>
        </p:nvSpPr>
        <p:spPr>
          <a:xfrm>
            <a:off x="2971800" y="1295280"/>
            <a:ext cx="175248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f1311"/>
                </a:solidFill>
                <a:latin typeface="Arial"/>
              </a:rPr>
              <a:t>ОСИН</a:t>
            </a:r>
            <a:endParaRPr b="0" lang="en-US" sz="40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204" name="Содержимое 2"/>
          <p:cNvSpPr/>
          <p:nvPr/>
        </p:nvSpPr>
        <p:spPr>
          <a:xfrm>
            <a:off x="4495680" y="1295280"/>
            <a:ext cx="106704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f1311"/>
                </a:solidFill>
                <a:latin typeface="Arial"/>
              </a:rPr>
              <a:t>ОВ</a:t>
            </a:r>
            <a:endParaRPr b="0" lang="en-US" sz="40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205" name="Содержимое 2"/>
          <p:cNvSpPr/>
          <p:nvPr/>
        </p:nvSpPr>
        <p:spPr>
          <a:xfrm>
            <a:off x="5334120" y="1295280"/>
            <a:ext cx="9903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f1311"/>
                </a:solidFill>
                <a:latin typeface="Arial"/>
              </a:rPr>
              <a:t>ИК</a:t>
            </a:r>
            <a:endParaRPr b="0" lang="en-US" sz="40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1066680" y="2362320"/>
            <a:ext cx="32418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. приставка</a:t>
            </a:r>
            <a:endParaRPr b="0" lang="en-US" sz="32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1066680" y="3200400"/>
            <a:ext cx="32418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2. корень</a:t>
            </a:r>
            <a:endParaRPr b="0" lang="en-US" sz="32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1066680" y="4114800"/>
            <a:ext cx="32418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3. суффикс</a:t>
            </a:r>
            <a:endParaRPr b="0" lang="en-US" sz="32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1066680" y="5029200"/>
            <a:ext cx="32418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4. окончание</a:t>
            </a:r>
            <a:endParaRPr b="0" lang="en-US" sz="3200" spc="-1" strike="noStrike">
              <a:solidFill>
                <a:srgbClr val="2f131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0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25,-81,121)"/>
                                      </p:to>
                                    </p:set>
                                    <p:set>
                                      <p:cBhvr>
                                        <p:cTn id="81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25,-81,121)"/>
                                      </p:to>
                                    </p:set>
                                    <p:set>
                                      <p:cBhvr>
                                        <p:cTn id="82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6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0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91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92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25,-81,121)"/>
                                      </p:to>
                                    </p:set>
                                    <p:set>
                                      <p:cBhvr>
                                        <p:cTn id="9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25,-81,121)"/>
                                      </p:to>
                                    </p:set>
                                    <p:set>
                                      <p:cBhvr>
                                        <p:cTn id="98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2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10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108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2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25,-81,121)"/>
                                      </p:to>
                                    </p:set>
                                    <p:set>
                                      <p:cBhvr>
                                        <p:cTn id="113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25,-81,121)"/>
                                      </p:to>
                                    </p:set>
                                    <p:set>
                                      <p:cBhvr>
                                        <p:cTn id="114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8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500" autoRev="1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123" dur="500" autoRev="1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124" dur="500" autoRev="1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8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25,-81,121)"/>
                                      </p:to>
                                    </p:set>
                                    <p:set>
                                      <p:cBhvr>
                                        <p:cTn id="129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25,-81,121)"/>
                                      </p:to>
                                    </p:set>
                                    <p:set>
                                      <p:cBhvr>
                                        <p:cTn id="130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3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3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3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42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143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144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1752480" y="1294920"/>
            <a:ext cx="2022480" cy="8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f1311"/>
                </a:solidFill>
                <a:latin typeface="Arial"/>
              </a:rPr>
              <a:t>ЗВЁЗД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Определи часть слов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Содержимое 2"/>
          <p:cNvSpPr/>
          <p:nvPr/>
        </p:nvSpPr>
        <p:spPr>
          <a:xfrm>
            <a:off x="3505320" y="1295280"/>
            <a:ext cx="144756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f1311"/>
                </a:solidFill>
                <a:latin typeface="Arial"/>
              </a:rPr>
              <a:t>ОЧК</a:t>
            </a:r>
            <a:endParaRPr b="0" lang="en-US" sz="40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213" name="Содержимое 2"/>
          <p:cNvSpPr/>
          <p:nvPr/>
        </p:nvSpPr>
        <p:spPr>
          <a:xfrm>
            <a:off x="4648320" y="1295280"/>
            <a:ext cx="68580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f1311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1066680" y="2362320"/>
            <a:ext cx="32418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. приставка</a:t>
            </a:r>
            <a:endParaRPr b="0" lang="en-US" sz="32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1066680" y="3200400"/>
            <a:ext cx="32418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2. корень</a:t>
            </a:r>
            <a:endParaRPr b="0" lang="en-US" sz="32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1066680" y="4114800"/>
            <a:ext cx="32418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3. суффикс</a:t>
            </a:r>
            <a:endParaRPr b="0" lang="en-US" sz="32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1066680" y="5029200"/>
            <a:ext cx="32418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4. окончание</a:t>
            </a:r>
            <a:endParaRPr b="0" lang="en-US" sz="3200" spc="-1" strike="noStrike">
              <a:solidFill>
                <a:srgbClr val="2f131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7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25,-81,121)"/>
                                      </p:to>
                                    </p:set>
                                    <p:set>
                                      <p:cBhvr>
                                        <p:cTn id="158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25,-81,121)"/>
                                      </p:to>
                                    </p:set>
                                    <p:set>
                                      <p:cBhvr>
                                        <p:cTn id="159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63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500" autoRev="1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168" dur="500" autoRev="1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169" dur="500" autoRev="1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3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25,-81,121)"/>
                                      </p:to>
                                    </p:set>
                                    <p:set>
                                      <p:cBhvr>
                                        <p:cTn id="174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25,-81,121)"/>
                                      </p:to>
                                    </p:set>
                                    <p:set>
                                      <p:cBhvr>
                                        <p:cTn id="175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9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83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184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185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89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25,-81,121)"/>
                                      </p:to>
                                    </p:set>
                                    <p:set>
                                      <p:cBhvr>
                                        <p:cTn id="190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25,-81,121)"/>
                                      </p:to>
                                    </p:set>
                                    <p:set>
                                      <p:cBhvr>
                                        <p:cTn id="191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95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666520" y="1371240"/>
            <a:ext cx="1413000" cy="8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f1311"/>
                </a:solidFill>
                <a:latin typeface="Arial"/>
              </a:rPr>
              <a:t>ПРО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Определи часть слов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0" name="Содержимое 2"/>
          <p:cNvSpPr/>
          <p:nvPr/>
        </p:nvSpPr>
        <p:spPr>
          <a:xfrm>
            <a:off x="3809880" y="1371600"/>
            <a:ext cx="144792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f1311"/>
                </a:solidFill>
                <a:latin typeface="Arial"/>
              </a:rPr>
              <a:t>ХОД</a:t>
            </a:r>
            <a:endParaRPr b="0" lang="en-US" sz="40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1066680" y="2362320"/>
            <a:ext cx="32418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. приставка</a:t>
            </a:r>
            <a:endParaRPr b="0" lang="en-US" sz="32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1066680" y="3200400"/>
            <a:ext cx="32418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2. корень</a:t>
            </a:r>
            <a:endParaRPr b="0" lang="en-US" sz="32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1066680" y="4114800"/>
            <a:ext cx="32418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3. суффикс</a:t>
            </a:r>
            <a:endParaRPr b="0" lang="en-US" sz="32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1066680" y="5029200"/>
            <a:ext cx="32418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4. окончание</a:t>
            </a:r>
            <a:endParaRPr b="0" lang="en-US" sz="3200" spc="-1" strike="noStrike">
              <a:solidFill>
                <a:srgbClr val="2f131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08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25,-81,121)"/>
                                      </p:to>
                                    </p:set>
                                    <p:set>
                                      <p:cBhvr>
                                        <p:cTn id="209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25,-81,121)"/>
                                      </p:to>
                                    </p:set>
                                    <p:set>
                                      <p:cBhvr>
                                        <p:cTn id="210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14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18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219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220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24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25,-81,121)"/>
                                      </p:to>
                                    </p:set>
                                    <p:set>
                                      <p:cBhvr>
                                        <p:cTn id="225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25,-81,121)"/>
                                      </p:to>
                                    </p:set>
                                    <p:set>
                                      <p:cBhvr>
                                        <p:cTn id="226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30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горь Саченко</dc:creator>
  <dc:description/>
  <dc:language>en-US</dc:language>
  <cp:lastModifiedBy>Игорь Саченко</cp:lastModifiedBy>
  <dcterms:modified xsi:type="dcterms:W3CDTF">2009-01-26T03:13:21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